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applause.wav" ContentType="audio/x-wav"/>
  <Override PartName="/ppt/media/image9.wmf" ContentType="image/x-wmf"/>
  <Override PartName="/ppt/media/image5.jpeg" ContentType="image/jpeg"/>
  <Override PartName="/ppt/media/image3.jpeg" ContentType="image/jpeg"/>
  <Override PartName="/ppt/media/image27.wmf" ContentType="image/x-wmf"/>
  <Override PartName="/ppt/media/image21.jpeg" ContentType="image/jpeg"/>
  <Override PartName="/ppt/media/image26.wmf" ContentType="image/x-wmf"/>
  <Override PartName="/ppt/media/image14.wmf" ContentType="image/x-wmf"/>
  <Override PartName="/ppt/media/image24.png" ContentType="image/png"/>
  <Override PartName="/ppt/media/image18.jpeg" ContentType="image/jpeg"/>
  <Override PartName="/ppt/media/image23.jpeg" ContentType="image/jpeg"/>
  <Override PartName="/ppt/media/image25.wmf" ContentType="image/x-wmf"/>
  <Override PartName="/ppt/media/image19.jpeg" ContentType="image/jpeg"/>
  <Override PartName="/ppt/media/image15.wmf" ContentType="image/x-wmf"/>
  <Override PartName="/ppt/media/image22.jpeg" ContentType="image/jpeg"/>
  <Override PartName="/ppt/media/image1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AE5-A90F-46B6-8781-43CB2431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4B2-A1D0-4287-AC67-0A03B8F6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CB9E-4555-4E12-B474-6D9A5B72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954-1B48-48D6-A307-4D1AA9D7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B1A-04AF-4808-B7F4-E5DE62E5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BDF-CCBB-4537-BD56-889452C8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A78-9030-4CFD-9DE4-FA208B73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66C-F239-4DEE-B632-A1461B30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C8C-674C-496D-B62F-10E2D7F0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424-F018-4B6D-A01B-A6DEB814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70C-F648-416F-B6DF-3671B940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6C0-7BF4-447D-A2BC-995BE4C8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F3CC-0C83-4530-8A0D-0A9814ED0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ads Applied (unfactor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 Load (self-weight):  50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828800"/>
            <a:ext cx="45720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ve Load (roof):  12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ve Load (deck):  50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843280"/>
            <a:ext cx="411480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ow Load (roof):  21.2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ow Load (deck):  30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962520"/>
            <a:ext cx="586728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 Load (leeward side):  3.9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 Load (windward side):  6.25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 Load (roof lateral):  5.47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1520" y="5562720"/>
            <a:ext cx="24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ingles:  3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09680" y="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jor Vertical Me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3-D%20MA" descr=""/>
          <p:cNvPicPr/>
          <p:nvPr/>
        </p:nvPicPr>
        <p:blipFill>
          <a:blip r:embed="rId2"/>
          <a:stretch/>
        </p:blipFill>
        <p:spPr>
          <a:xfrm>
            <a:off x="990720" y="2770200"/>
            <a:ext cx="4343400" cy="40878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2209680" y="2057400"/>
            <a:ext cx="6934320" cy="4191120"/>
            <a:chOff x="2209680" y="2057400"/>
            <a:chExt cx="6934320" cy="4191120"/>
          </a:xfrm>
        </p:grpSpPr>
        <p:sp>
          <p:nvSpPr>
            <p:cNvPr id="71" name=""/>
            <p:cNvSpPr/>
            <p:nvPr/>
          </p:nvSpPr>
          <p:spPr>
            <a:xfrm>
              <a:off x="2209680" y="205740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4 x 4 posts at 12 feet long posts supporting platfo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6095880"/>
              <a:ext cx="685800" cy="15264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38160 h 152640"/>
                <a:gd name="textAreaBottom" fmla="*/ 114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990720" y="990720"/>
            <a:ext cx="7315200" cy="4724280"/>
            <a:chOff x="990720" y="990720"/>
            <a:chExt cx="7315200" cy="4724280"/>
          </a:xfrm>
        </p:grpSpPr>
        <p:sp>
          <p:nvSpPr>
            <p:cNvPr id="74" name=""/>
            <p:cNvSpPr/>
            <p:nvPr/>
          </p:nvSpPr>
          <p:spPr>
            <a:xfrm>
              <a:off x="2209680" y="990720"/>
              <a:ext cx="609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6 x 6 at 16 feet long for housed por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90720" y="5562720"/>
              <a:ext cx="685800" cy="15228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828800" y="1523880"/>
            <a:ext cx="5638680" cy="1905120"/>
            <a:chOff x="1828800" y="1523880"/>
            <a:chExt cx="5638680" cy="1905120"/>
          </a:xfrm>
        </p:grpSpPr>
        <p:sp>
          <p:nvSpPr>
            <p:cNvPr id="77" name=""/>
            <p:cNvSpPr/>
            <p:nvPr/>
          </p:nvSpPr>
          <p:spPr>
            <a:xfrm>
              <a:off x="2209680" y="1523880"/>
              <a:ext cx="525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4 x 4 king posts supporting roof tru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28800" y="3276720"/>
              <a:ext cx="685800" cy="15228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33280" y="121932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21932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200400" y="304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levation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33280" y="114300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14300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600200" y="380880"/>
            <a:ext cx="563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3049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levation View – Bent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33280" y="121932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21932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362320" y="304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levation View – Bent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jor Horizontal Me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3-D%20MA" descr=""/>
          <p:cNvPicPr/>
          <p:nvPr/>
        </p:nvPicPr>
        <p:blipFill>
          <a:blip r:embed="rId2"/>
          <a:stretch/>
        </p:blipFill>
        <p:spPr>
          <a:xfrm>
            <a:off x="990720" y="2770200"/>
            <a:ext cx="4343400" cy="40878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1523880" y="1143000"/>
            <a:ext cx="4800600" cy="1905120"/>
            <a:chOff x="1523880" y="1143000"/>
            <a:chExt cx="4800600" cy="1905120"/>
          </a:xfrm>
        </p:grpSpPr>
        <p:sp>
          <p:nvSpPr>
            <p:cNvPr id="92" name=""/>
            <p:cNvSpPr/>
            <p:nvPr/>
          </p:nvSpPr>
          <p:spPr>
            <a:xfrm>
              <a:off x="1523880" y="11430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4 x 8 ridge beam at 16 feet lo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09680" y="2133720"/>
              <a:ext cx="152640" cy="914400"/>
            </a:xfrm>
            <a:prstGeom prst="downArrow">
              <a:avLst>
                <a:gd name="adj1" fmla="val 50000"/>
                <a:gd name="adj2" fmla="val 14976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295280" y="1600200"/>
            <a:ext cx="4800600" cy="2438280"/>
            <a:chOff x="1295280" y="1600200"/>
            <a:chExt cx="4800600" cy="2438280"/>
          </a:xfrm>
        </p:grpSpPr>
        <p:sp>
          <p:nvSpPr>
            <p:cNvPr id="95" name=""/>
            <p:cNvSpPr/>
            <p:nvPr/>
          </p:nvSpPr>
          <p:spPr>
            <a:xfrm>
              <a:off x="1523880" y="160020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4 x 6 fascia beams at 16 feet lo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95280" y="2971800"/>
              <a:ext cx="152640" cy="914400"/>
            </a:xfrm>
            <a:prstGeom prst="downArrow">
              <a:avLst>
                <a:gd name="adj1" fmla="val 50000"/>
                <a:gd name="adj2" fmla="val 14976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2680" y="3124080"/>
              <a:ext cx="152640" cy="914400"/>
            </a:xfrm>
            <a:prstGeom prst="downArrow">
              <a:avLst>
                <a:gd name="adj1" fmla="val 50000"/>
                <a:gd name="adj2" fmla="val 14976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828800" y="2133720"/>
            <a:ext cx="6858000" cy="1752480"/>
            <a:chOff x="1828800" y="2133720"/>
            <a:chExt cx="6858000" cy="1752480"/>
          </a:xfrm>
        </p:grpSpPr>
        <p:grpSp>
          <p:nvGrpSpPr>
            <p:cNvPr id="99" name=""/>
            <p:cNvGrpSpPr/>
            <p:nvPr/>
          </p:nvGrpSpPr>
          <p:grpSpPr>
            <a:xfrm>
              <a:off x="1828800" y="2133720"/>
              <a:ext cx="6858000" cy="1295280"/>
              <a:chOff x="1828800" y="2133720"/>
              <a:chExt cx="6858000" cy="1295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800600" y="2133720"/>
                <a:ext cx="388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 4 x 4 for truss rafters, chor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28800" y="2514600"/>
                <a:ext cx="152280" cy="914400"/>
              </a:xfrm>
              <a:prstGeom prst="downArrow">
                <a:avLst>
                  <a:gd name="adj1" fmla="val 50000"/>
                  <a:gd name="adj2" fmla="val 150118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24080" y="2362320"/>
                <a:ext cx="152640" cy="914400"/>
              </a:xfrm>
              <a:prstGeom prst="downArrow">
                <a:avLst>
                  <a:gd name="adj1" fmla="val 50000"/>
                  <a:gd name="adj2" fmla="val 1497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133720" y="2971800"/>
              <a:ext cx="152280" cy="914400"/>
            </a:xfrm>
            <a:prstGeom prst="downArrow">
              <a:avLst>
                <a:gd name="adj1" fmla="val 50000"/>
                <a:gd name="adj2" fmla="val 1501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114800" y="2666880"/>
            <a:ext cx="5029200" cy="3429000"/>
            <a:chOff x="4114800" y="2666880"/>
            <a:chExt cx="5029200" cy="3429000"/>
          </a:xfrm>
        </p:grpSpPr>
        <p:sp>
          <p:nvSpPr>
            <p:cNvPr id="105" name=""/>
            <p:cNvSpPr/>
            <p:nvPr/>
          </p:nvSpPr>
          <p:spPr>
            <a:xfrm>
              <a:off x="4800600" y="266688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2 x 8 girts and joists on platfo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14800" y="5029200"/>
              <a:ext cx="152280" cy="1066680"/>
            </a:xfrm>
            <a:prstGeom prst="upArrow">
              <a:avLst>
                <a:gd name="adj1" fmla="val 50000"/>
                <a:gd name="adj2" fmla="val 1751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209680" y="3200400"/>
            <a:ext cx="6553440" cy="2895480"/>
            <a:chOff x="2209680" y="3200400"/>
            <a:chExt cx="6553440" cy="2895480"/>
          </a:xfrm>
        </p:grpSpPr>
        <p:sp>
          <p:nvSpPr>
            <p:cNvPr id="108" name=""/>
            <p:cNvSpPr/>
            <p:nvPr/>
          </p:nvSpPr>
          <p:spPr>
            <a:xfrm>
              <a:off x="4800600" y="320040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2 x 8 joists in housed por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09680" y="5029200"/>
              <a:ext cx="152640" cy="1066680"/>
            </a:xfrm>
            <a:prstGeom prst="upArrow">
              <a:avLst>
                <a:gd name="adj1" fmla="val 50000"/>
                <a:gd name="adj2" fmla="val 17470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33280" y="121932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21932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90512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lan View – Bottom of Tru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33280" y="129528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29528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59092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lan View – D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57680" y="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ther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3-D%20MS" descr=""/>
          <p:cNvPicPr/>
          <p:nvPr/>
        </p:nvPicPr>
        <p:blipFill>
          <a:blip r:embed="rId2"/>
          <a:stretch/>
        </p:blipFill>
        <p:spPr>
          <a:xfrm>
            <a:off x="0" y="3009960"/>
            <a:ext cx="5334120" cy="38480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85800" y="990720"/>
            <a:ext cx="7620120" cy="3581280"/>
            <a:chOff x="685800" y="990720"/>
            <a:chExt cx="7620120" cy="3581280"/>
          </a:xfrm>
        </p:grpSpPr>
        <p:sp>
          <p:nvSpPr>
            <p:cNvPr id="119" name=""/>
            <p:cNvSpPr/>
            <p:nvPr/>
          </p:nvSpPr>
          <p:spPr>
            <a:xfrm>
              <a:off x="2209680" y="990720"/>
              <a:ext cx="609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1” plywood shea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71600" y="2743200"/>
              <a:ext cx="152280" cy="685800"/>
            </a:xfrm>
            <a:prstGeom prst="downArrow">
              <a:avLst>
                <a:gd name="adj1" fmla="val 50000"/>
                <a:gd name="adj2" fmla="val 1125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800" y="4419720"/>
              <a:ext cx="685800" cy="15228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828800" y="1523880"/>
            <a:ext cx="5638680" cy="4496040"/>
            <a:chOff x="1828800" y="1523880"/>
            <a:chExt cx="5638680" cy="4496040"/>
          </a:xfrm>
        </p:grpSpPr>
        <p:sp>
          <p:nvSpPr>
            <p:cNvPr id="123" name=""/>
            <p:cNvSpPr/>
            <p:nvPr/>
          </p:nvSpPr>
          <p:spPr>
            <a:xfrm>
              <a:off x="2209680" y="1523880"/>
              <a:ext cx="525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2 x 6 tongue-in-groove dec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5410080"/>
              <a:ext cx="152280" cy="609840"/>
            </a:xfrm>
            <a:prstGeom prst="upArrow">
              <a:avLst>
                <a:gd name="adj1" fmla="val 50000"/>
                <a:gd name="adj2" fmla="val 1001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00400" y="5410080"/>
              <a:ext cx="152280" cy="609840"/>
            </a:xfrm>
            <a:prstGeom prst="upArrow">
              <a:avLst>
                <a:gd name="adj1" fmla="val 50000"/>
                <a:gd name="adj2" fmla="val 1001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19720" y="5410080"/>
              <a:ext cx="152280" cy="609840"/>
            </a:xfrm>
            <a:prstGeom prst="upArrow">
              <a:avLst>
                <a:gd name="adj1" fmla="val 50000"/>
                <a:gd name="adj2" fmla="val 1001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62120" y="2971800"/>
            <a:ext cx="7619760" cy="3429000"/>
            <a:chOff x="762120" y="2971800"/>
            <a:chExt cx="7619760" cy="3429000"/>
          </a:xfrm>
        </p:grpSpPr>
        <p:sp>
          <p:nvSpPr>
            <p:cNvPr id="128" name=""/>
            <p:cNvSpPr/>
            <p:nvPr/>
          </p:nvSpPr>
          <p:spPr>
            <a:xfrm>
              <a:off x="5562720" y="297180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2 x 4 kneebr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120" y="5562720"/>
              <a:ext cx="152280" cy="838080"/>
            </a:xfrm>
            <a:prstGeom prst="upArrow">
              <a:avLst>
                <a:gd name="adj1" fmla="val 50000"/>
                <a:gd name="adj2" fmla="val 1375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62320" y="5562720"/>
              <a:ext cx="152280" cy="838080"/>
            </a:xfrm>
            <a:prstGeom prst="upArrow">
              <a:avLst>
                <a:gd name="adj1" fmla="val 50000"/>
                <a:gd name="adj2" fmla="val 1375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4800" y="5486400"/>
              <a:ext cx="152280" cy="838080"/>
            </a:xfrm>
            <a:prstGeom prst="upArrow">
              <a:avLst>
                <a:gd name="adj1" fmla="val 50000"/>
                <a:gd name="adj2" fmla="val 1375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352680" y="3581280"/>
            <a:ext cx="5334120" cy="2438640"/>
            <a:chOff x="3352680" y="3581280"/>
            <a:chExt cx="5334120" cy="2438640"/>
          </a:xfrm>
        </p:grpSpPr>
        <p:sp>
          <p:nvSpPr>
            <p:cNvPr id="133" name=""/>
            <p:cNvSpPr/>
            <p:nvPr/>
          </p:nvSpPr>
          <p:spPr>
            <a:xfrm>
              <a:off x="5562720" y="35812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2 x 6 bridge gi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5410080"/>
              <a:ext cx="152640" cy="609840"/>
            </a:xfrm>
            <a:prstGeom prst="upArrow">
              <a:avLst>
                <a:gd name="adj1" fmla="val 50000"/>
                <a:gd name="adj2" fmla="val 9988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80880" y="4191120"/>
            <a:ext cx="8534520" cy="825480"/>
            <a:chOff x="380880" y="4191120"/>
            <a:chExt cx="8534520" cy="825480"/>
          </a:xfrm>
        </p:grpSpPr>
        <p:sp>
          <p:nvSpPr>
            <p:cNvPr id="136" name=""/>
            <p:cNvSpPr/>
            <p:nvPr/>
          </p:nvSpPr>
          <p:spPr>
            <a:xfrm>
              <a:off x="5562720" y="4191120"/>
              <a:ext cx="335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4 x 4 verticals and 2 x 4      horizontals for rai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880" y="4191120"/>
              <a:ext cx="152640" cy="533160"/>
            </a:xfrm>
            <a:prstGeom prst="downArrow">
              <a:avLst>
                <a:gd name="adj1" fmla="val 50000"/>
                <a:gd name="adj2" fmla="val 8732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6920" y="4267080"/>
              <a:ext cx="152280" cy="533520"/>
            </a:xfrm>
            <a:prstGeom prst="downArrow">
              <a:avLst>
                <a:gd name="adj1" fmla="val 50000"/>
                <a:gd name="adj2" fmla="val 875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76720" y="4267080"/>
              <a:ext cx="152280" cy="533520"/>
            </a:xfrm>
            <a:prstGeom prst="downArrow">
              <a:avLst>
                <a:gd name="adj1" fmla="val 50000"/>
                <a:gd name="adj2" fmla="val 875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19320" y="2057400"/>
            <a:ext cx="7924680" cy="4114800"/>
            <a:chOff x="1219320" y="2057400"/>
            <a:chExt cx="7924680" cy="4114800"/>
          </a:xfrm>
        </p:grpSpPr>
        <p:sp>
          <p:nvSpPr>
            <p:cNvPr id="141" name=""/>
            <p:cNvSpPr/>
            <p:nvPr/>
          </p:nvSpPr>
          <p:spPr>
            <a:xfrm>
              <a:off x="2209680" y="205740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2 x 6 patio jo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9320" y="5410080"/>
              <a:ext cx="152280" cy="762120"/>
            </a:xfrm>
            <a:prstGeom prst="upArrow">
              <a:avLst>
                <a:gd name="adj1" fmla="val 50000"/>
                <a:gd name="adj2" fmla="val 1251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76720" y="3049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066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Posts secured to concrete with anch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8600" y="3429000"/>
          <a:ext cx="4343400" cy="324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429000"/>
                    <a:ext cx="4343400" cy="32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9480" y="1600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Girt connections utilize housed mortise and te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6668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xtensive use of joint hang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21337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russ constructed with fabricated gusset 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 437 – Timber Desig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233280" y="129528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29528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438280" y="380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etail – Post Anch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33280" y="129528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29528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28600" y="380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etail – Mortise &amp; Tenon Joint/Joist Hang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33280" y="121932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21932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13372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etail – Truss Gusset P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76240" y="380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AP 2000 – Finite Elemen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tructure treated as frame (connections transfer mo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057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 connections assumed pi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59092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 factors applied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 Load - 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ve Load - 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ow Load -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 Load -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x=-12%20Axial%20Forces" descr=""/>
          <p:cNvPicPr/>
          <p:nvPr/>
        </p:nvPicPr>
        <p:blipFill>
          <a:blip r:embed="rId2"/>
          <a:stretch/>
        </p:blipFill>
        <p:spPr>
          <a:xfrm>
            <a:off x="933480" y="1828800"/>
            <a:ext cx="7277040" cy="4780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695760" y="1219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xial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3733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aximum Factored Loa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fters:  1.5 kips (ten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tom Chords of Truss:  1.4 kips (com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neebraces:  1.0  kips (com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257800" y="0"/>
            <a:ext cx="3886200" cy="5778720"/>
            <a:chOff x="5257800" y="0"/>
            <a:chExt cx="3886200" cy="5778720"/>
          </a:xfrm>
        </p:grpSpPr>
        <p:sp>
          <p:nvSpPr>
            <p:cNvPr id="168" name=""/>
            <p:cNvSpPr/>
            <p:nvPr/>
          </p:nvSpPr>
          <p:spPr>
            <a:xfrm>
              <a:off x="5257800" y="0"/>
              <a:ext cx="3886200" cy="12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.R.F.D. Design Valu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afters  (4 x 4):  17.5 kips (tens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Bottom Chords of Truss  (4 x 4) ,  6’ unbraced:  10.2  kips (compress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Kneebraces  (2 x 4):  7.1 kips (compress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315040" y="2214000"/>
              <a:ext cx="2381040" cy="3564720"/>
              <a:chOff x="5315040" y="2214000"/>
              <a:chExt cx="2381040" cy="3564720"/>
            </a:xfrm>
          </p:grpSpPr>
          <p:sp>
            <p:nvSpPr>
              <p:cNvPr id="170" name=""/>
              <p:cNvSpPr/>
              <p:nvPr/>
            </p:nvSpPr>
            <p:spPr>
              <a:xfrm rot="2700000">
                <a:off x="7092360" y="2507400"/>
                <a:ext cx="565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900000">
                <a:off x="5334480" y="2361600"/>
                <a:ext cx="533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34120" y="3124080"/>
                <a:ext cx="533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086600" y="315432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700000">
                <a:off x="6644160" y="5241240"/>
                <a:ext cx="85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2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57600" y="1143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ment 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X=-4%20Moment%202-2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7162560" cy="4803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52280" y="380880"/>
            <a:ext cx="4038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aximum Factored Loa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:  4.0 in.-k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34120" y="380880"/>
            <a:ext cx="3504960" cy="5562360"/>
            <a:chOff x="5334120" y="380880"/>
            <a:chExt cx="3504960" cy="5562360"/>
          </a:xfrm>
        </p:grpSpPr>
        <p:sp>
          <p:nvSpPr>
            <p:cNvPr id="179" name=""/>
            <p:cNvSpPr/>
            <p:nvPr/>
          </p:nvSpPr>
          <p:spPr>
            <a:xfrm>
              <a:off x="6477120" y="380880"/>
              <a:ext cx="236196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.R.F.D. Design Valu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lumns  (6 x 6) :  40.7 in.-k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5334120" y="5105520"/>
              <a:ext cx="1876680" cy="837720"/>
              <a:chOff x="5334120" y="5105520"/>
              <a:chExt cx="1876680" cy="837720"/>
            </a:xfrm>
          </p:grpSpPr>
          <p:sp>
            <p:nvSpPr>
              <p:cNvPr id="181" name=""/>
              <p:cNvSpPr/>
              <p:nvPr/>
            </p:nvSpPr>
            <p:spPr>
              <a:xfrm rot="16200000">
                <a:off x="5129280" y="546192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200000">
                <a:off x="5841360" y="5360040"/>
                <a:ext cx="78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200000">
                <a:off x="6767640" y="542376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Y=0%20Axial%20Forces" descr=""/>
          <p:cNvPicPr/>
          <p:nvPr/>
        </p:nvPicPr>
        <p:blipFill>
          <a:blip r:embed="rId2"/>
          <a:stretch/>
        </p:blipFill>
        <p:spPr>
          <a:xfrm>
            <a:off x="852480" y="1447920"/>
            <a:ext cx="7439040" cy="4937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581280" y="914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xial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33526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aximum Factored Loa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g Post:  5.0 kips  (com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:  5.5 kips  (com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34120" y="0"/>
            <a:ext cx="3809880" cy="5662080"/>
            <a:chOff x="5334120" y="0"/>
            <a:chExt cx="3809880" cy="5662080"/>
          </a:xfrm>
        </p:grpSpPr>
        <p:sp>
          <p:nvSpPr>
            <p:cNvPr id="188" name=""/>
            <p:cNvSpPr/>
            <p:nvPr/>
          </p:nvSpPr>
          <p:spPr>
            <a:xfrm>
              <a:off x="5334120" y="0"/>
              <a:ext cx="38098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.R.F.D. Design Valu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King Post  (4 x 4) ,  8’ unbraced:  10.2 k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lumns  (6 x 6) ,  8’ unbraced:  23.4 kips (compress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410080" y="2057400"/>
              <a:ext cx="1800720" cy="3604680"/>
              <a:chOff x="5410080" y="2057400"/>
              <a:chExt cx="1800720" cy="3604680"/>
            </a:xfrm>
          </p:grpSpPr>
          <p:sp>
            <p:nvSpPr>
              <p:cNvPr id="190" name=""/>
              <p:cNvSpPr/>
              <p:nvPr/>
            </p:nvSpPr>
            <p:spPr>
              <a:xfrm rot="16200000">
                <a:off x="5281560" y="5233320"/>
                <a:ext cx="533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6200000">
                <a:off x="5231520" y="3759840"/>
                <a:ext cx="63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200000">
                <a:off x="6755760" y="3759840"/>
                <a:ext cx="63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200000">
                <a:off x="6755760" y="5207040"/>
                <a:ext cx="633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200000">
                <a:off x="5269680" y="2197800"/>
                <a:ext cx="55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6793920" y="2197800"/>
                <a:ext cx="55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Y=0%20Moment%203-3" descr=""/>
          <p:cNvPicPr/>
          <p:nvPr/>
        </p:nvPicPr>
        <p:blipFill>
          <a:blip r:embed="rId2"/>
          <a:stretch/>
        </p:blipFill>
        <p:spPr>
          <a:xfrm>
            <a:off x="876240" y="1295280"/>
            <a:ext cx="7391520" cy="5220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09880" y="762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ment 3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3429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aximum Factored Loa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dge Beam:  53.0 in.-k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019920" y="0"/>
            <a:ext cx="3124080" cy="1571760"/>
            <a:chOff x="6019920" y="0"/>
            <a:chExt cx="3124080" cy="1571760"/>
          </a:xfrm>
        </p:grpSpPr>
        <p:sp>
          <p:nvSpPr>
            <p:cNvPr id="200" name=""/>
            <p:cNvSpPr/>
            <p:nvPr/>
          </p:nvSpPr>
          <p:spPr>
            <a:xfrm>
              <a:off x="6477120" y="0"/>
              <a:ext cx="26668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.R.F.D. Design Valu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idge Beam  (4 x 10) :  99.7  in.-k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9920" y="12952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 x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Y=0%20Shear%202-2" descr=""/>
          <p:cNvPicPr/>
          <p:nvPr/>
        </p:nvPicPr>
        <p:blipFill>
          <a:blip r:embed="rId2"/>
          <a:stretch/>
        </p:blipFill>
        <p:spPr>
          <a:xfrm>
            <a:off x="704880" y="1219320"/>
            <a:ext cx="7734240" cy="5306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62520" y="609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ear 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2096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aximum Factored Lo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dge Beam:  2.8 k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095880" y="0"/>
            <a:ext cx="3048120" cy="1571760"/>
            <a:chOff x="6095880" y="0"/>
            <a:chExt cx="3048120" cy="1571760"/>
          </a:xfrm>
        </p:grpSpPr>
        <p:sp>
          <p:nvSpPr>
            <p:cNvPr id="206" name=""/>
            <p:cNvSpPr/>
            <p:nvPr/>
          </p:nvSpPr>
          <p:spPr>
            <a:xfrm>
              <a:off x="6858000" y="0"/>
              <a:ext cx="2286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.R.F.D. Design Valu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idge Beam  (4 x10) : 3.37 k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5880" y="129528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 x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Y=4%20Axial%20Forces" descr=""/>
          <p:cNvPicPr/>
          <p:nvPr/>
        </p:nvPicPr>
        <p:blipFill>
          <a:blip r:embed="rId2"/>
          <a:stretch/>
        </p:blipFill>
        <p:spPr>
          <a:xfrm>
            <a:off x="781200" y="1447920"/>
            <a:ext cx="7581600" cy="4946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9880" y="914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xial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3429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aximum Factored Loa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:  3.9 k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ts:  1.8 k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05120" y="0"/>
            <a:ext cx="7238880" cy="5638680"/>
            <a:chOff x="1905120" y="0"/>
            <a:chExt cx="7238880" cy="5638680"/>
          </a:xfrm>
        </p:grpSpPr>
        <p:sp>
          <p:nvSpPr>
            <p:cNvPr id="212" name=""/>
            <p:cNvSpPr/>
            <p:nvPr/>
          </p:nvSpPr>
          <p:spPr>
            <a:xfrm>
              <a:off x="6172200" y="0"/>
              <a:ext cx="2971800" cy="10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.R.F.D. Design Valu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lumns  (6 x 6) ,  6’ unbraced:  25.4 k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osts  (4 x 4) ,  8’ unbraced length:  10.2 kips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1905120" y="4876920"/>
              <a:ext cx="6372360" cy="761760"/>
              <a:chOff x="1905120" y="4876920"/>
              <a:chExt cx="6372360" cy="761760"/>
            </a:xfrm>
          </p:grpSpPr>
          <p:sp>
            <p:nvSpPr>
              <p:cNvPr id="214" name=""/>
              <p:cNvSpPr/>
              <p:nvPr/>
            </p:nvSpPr>
            <p:spPr>
              <a:xfrm rot="16200000">
                <a:off x="2576880" y="5119560"/>
                <a:ext cx="76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6200000">
                <a:off x="1662480" y="5119560"/>
                <a:ext cx="76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6200000">
                <a:off x="3414960" y="5119560"/>
                <a:ext cx="76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6200000">
                <a:off x="6081840" y="5119560"/>
                <a:ext cx="60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6200000">
                <a:off x="7834320" y="5119560"/>
                <a:ext cx="60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E 437 – Timb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:  Play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438280"/>
            <a:ext cx="74674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ve Maruskin (el capit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son Huck (resident archit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ff Leake (interior de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yan Dhume (special joint desig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son Manson (chief carp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ach Bazell (CAD technici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Z=16%20Moment%202-2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7619760" cy="4965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657600" y="914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ment 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52280"/>
            <a:ext cx="32004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aximum Factored Loa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scia Beam:  9.8  in.-k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sica Beam ,  Moment 3-3: 23.0  in.-k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791320" y="152280"/>
            <a:ext cx="3352680" cy="6220080"/>
            <a:chOff x="5791320" y="152280"/>
            <a:chExt cx="3352680" cy="6220080"/>
          </a:xfrm>
        </p:grpSpPr>
        <p:sp>
          <p:nvSpPr>
            <p:cNvPr id="223" name=""/>
            <p:cNvSpPr/>
            <p:nvPr/>
          </p:nvSpPr>
          <p:spPr>
            <a:xfrm>
              <a:off x="5791320" y="152280"/>
              <a:ext cx="3352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.R.F.D. Design Valu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ascia Beam  (4 x 6) :  24.3  in.-k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ascia Beam  (4 x 6) ,  Moment 3-3 :  38.2  in.-k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5791320" y="1676520"/>
              <a:ext cx="533160" cy="4695840"/>
              <a:chOff x="5791320" y="1676520"/>
              <a:chExt cx="533160" cy="4695840"/>
            </a:xfrm>
          </p:grpSpPr>
          <p:sp>
            <p:nvSpPr>
              <p:cNvPr id="225" name=""/>
              <p:cNvSpPr/>
              <p:nvPr/>
            </p:nvSpPr>
            <p:spPr>
              <a:xfrm>
                <a:off x="5791320" y="1676520"/>
                <a:ext cx="533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91320" y="6095880"/>
                <a:ext cx="533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33520" y="835200"/>
            <a:ext cx="3809880" cy="259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19320" y="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ormation due to Dead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876920" y="887400"/>
            <a:ext cx="3733560" cy="2541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486400" y="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ormation due to Live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33520" y="4265640"/>
            <a:ext cx="3809880" cy="2592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66680" y="3429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ormation due to Snow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4876920" y="4368960"/>
            <a:ext cx="3657600" cy="2489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486400" y="35812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ormation due to Wind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Quantities of Material U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876240" y="914400"/>
          <a:ext cx="7391520" cy="5553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6240" y="914400"/>
                    <a:ext cx="739152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s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085760" y="1066680"/>
          <a:ext cx="6972480" cy="52293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5760" y="1066680"/>
                    <a:ext cx="697248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nnector Cost Break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066680" y="1219320"/>
          <a:ext cx="7010640" cy="52578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19320"/>
                    <a:ext cx="70106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3-D%20MA" descr=""/>
          <p:cNvPicPr/>
          <p:nvPr/>
        </p:nvPicPr>
        <p:blipFill>
          <a:blip r:embed="rId2"/>
          <a:stretch/>
        </p:blipFill>
        <p:spPr>
          <a:xfrm>
            <a:off x="1562040" y="1219320"/>
            <a:ext cx="6019920" cy="5181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05320" y="304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imber Design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bjective:  To design and analyze a timber playset using Load and Resistance Factor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-D%20HA" descr="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-D%20MA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91520" cy="695628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-D%20ME" descr=""/>
          <p:cNvPicPr/>
          <p:nvPr/>
        </p:nvPicPr>
        <p:blipFill>
          <a:blip r:embed="rId1"/>
          <a:stretch/>
        </p:blipFill>
        <p:spPr>
          <a:xfrm>
            <a:off x="1752480" y="0"/>
            <a:ext cx="522144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E 437 – Timb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:  Play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438280"/>
            <a:ext cx="74674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ve Maruskin (el capit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son Huck (resident archit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ff Leake (interior de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yan Dhume (special joint desig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son Manson (chief carp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ach Bazell (CAD technici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pec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579096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ccess to shelter by ladder and railing for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37160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ll members used are pressure treated Souther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 p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43828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Two structures connected by a bridge: housed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tform po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505320"/>
            <a:ext cx="693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ach portion is 8 x 8 ft. and 8 ft.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11480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ft. walkway around she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72428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oof covers an area of 16 x 16 ft. with a pitch o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 on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0:12:05Z</dcterms:created>
  <dc:creator>Jeffrey D. Leake</dc:creator>
  <dc:description/>
  <dc:language>en-US</dc:language>
  <cp:lastModifiedBy>Jeffrey D. Leake</cp:lastModifiedBy>
  <dcterms:modified xsi:type="dcterms:W3CDTF">2001-03-08T07:44:56Z</dcterms:modified>
  <cp:revision>45</cp:revision>
  <dc:subject/>
  <dc:title>PowerPoint Presentation</dc:title>
</cp:coreProperties>
</file>